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9F100-E023-4C30-AD3F-9595AEC2C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6CC5E-7E4C-4F69-9F77-E0034E7D4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B8690-E1BD-4361-B75B-15A13EE0C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8ACF2-1FF6-4815-803F-AD5990FD0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047D8-E779-4D90-9450-9874B8414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FBEC3-5118-4209-8515-6FA5A902C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E342E-01C1-41C3-8A57-9D91414EC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5575F-26D8-4740-8B5F-4339D1238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196C1-E93E-4C9E-90B2-E8B7CE744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A91EC-0D53-4F4B-AE8F-F82B8F92C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328B2-A7C7-46B4-A08F-99166D9AB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5F615-20BB-49BD-8B36-3FF57E3B7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4DF04-3F3B-43D8-AE3C-035E0E678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13505-79AB-48BF-8F03-BD931B531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D7473-1F8D-4721-AE19-F7DF48E70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22DEF-3E40-4A73-A8CA-1CBC1F0B4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DEC4B-FC86-4195-AA35-68086E9A1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3CDE3-F109-49F9-A769-381D2BDD7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3DA2B-5BDA-45BD-A64C-FD361003A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AECE9-44E7-4169-AF4B-CC56E985D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19042-8664-45AA-8963-2571760EE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B11F1-A5A1-4A40-9D87-C3BEE13BE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5D6F0-14CC-41B0-8A8C-BB173D783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2209E-630C-4999-B748-B6719E3CC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8D6EB-43EC-40DD-A612-55E3141A67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66BBB-5009-481C-958C-9897FE43F74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6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장 정서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-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행동장애아 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1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정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진흥법 시행령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17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서장애에 자폐를 포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DEA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체 정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장애 아동협회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자폐시민협회의 자폐증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폐증과 자폐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인 등에 대한 특수교육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폐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원인 및 출현율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서와 행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각각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0.55%, 0.15%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원인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생물학적 요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손상과 뇌기능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경적 요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가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3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분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교육적 분류체제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분열적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사회적으로 부적절하거나 미숙한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사회적 위축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상동적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공격적인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미국 정신의학회의 정신장애진단 및 통계편람</a:t>
            </a: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(DSM-IV)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전반적 발달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주의력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결핍 및 파괴적 행동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유아기 또는 초기 아동기 급식 및 섭식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틱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배설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분리불안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선택적 함묵증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애착장애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상동적 운동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통계적 분류체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외부지향성 및 내부지향성 행동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4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반적 정서행동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적응행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업성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폐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극 과잉선택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낮은 동기유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기자극 반응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강화와 결과에 대한 독특한 반응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5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진단평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선별검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검목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checklist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투사검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접 관찰과 행동 측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02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6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 및 중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0074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관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계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급 행동관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물 치료와 교육의 병행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 하세요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!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13" name="Picture 4" descr="MCj04042630000[1]"/>
          <p:cNvPicPr/>
          <p:nvPr/>
        </p:nvPicPr>
        <p:blipFill>
          <a:blip r:embed="rId1"/>
          <a:stretch/>
        </p:blipFill>
        <p:spPr>
          <a:xfrm>
            <a:off x="2627280" y="1844640"/>
            <a:ext cx="439272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9T15:10:29Z</dcterms:created>
  <dc:creator>.</dc:creator>
  <dc:description/>
  <dc:language>en-US</dc:language>
  <cp:lastModifiedBy>sec</cp:lastModifiedBy>
  <dcterms:modified xsi:type="dcterms:W3CDTF">2010-01-11T00:15:28Z</dcterms:modified>
  <cp:revision>8</cp:revision>
  <dc:subject/>
  <dc:title>제 6장 사회교과교육</dc:title>
</cp:coreProperties>
</file>